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70F-0E7B-493A-9B73-1FE4F906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AA4F-7BE3-4272-830D-BB7A9380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E34-49D4-40AB-8744-140158C4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F389-4D30-45D9-AFE8-8626DAE0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D834-F110-4C45-B80A-0A05D39A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F23A-4D8F-44BF-9DF5-5315E138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D004-931C-4E2F-86CC-0C2143BC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0212-6B7B-4EF2-B662-777C92E1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B0FC-1FA4-4F52-9A55-A867E28A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94D2-E1A7-49A6-8D42-7298B4A2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6DD-E38E-41F3-A0AC-B1351B66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80C-36D8-47AF-9A15-D6BA0BA4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A338-2E24-41AA-9F44-868319BA78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&#1055;&#1077;&#1090;&#1088;&#1072;1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6858000" y="3429000"/>
            <a:ext cx="542880" cy="4762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shablony-dlya-prezentaziy-11-3.jpg"/>
          <p:cNvPicPr/>
          <p:nvPr/>
        </p:nvPicPr>
        <p:blipFill>
          <a:blip r:embed="rId2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1086480" y="1143000"/>
            <a:ext cx="29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еши урав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153440" y="185724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6154920" y="185724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s623309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11880" y="5565600"/>
            <a:ext cx="1724040" cy="1298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5"/>
          <a:stretch/>
        </p:blipFill>
        <p:spPr>
          <a:xfrm>
            <a:off x="1000080" y="2714760"/>
            <a:ext cx="3438720" cy="4856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6"/>
          <a:stretch/>
        </p:blipFill>
        <p:spPr>
          <a:xfrm>
            <a:off x="5286240" y="2714760"/>
            <a:ext cx="3629160" cy="485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7"/>
          <a:stretch/>
        </p:blipFill>
        <p:spPr>
          <a:xfrm>
            <a:off x="2214720" y="3429000"/>
            <a:ext cx="81900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2"/>
          <p:cNvSpPr/>
          <p:nvPr/>
        </p:nvSpPr>
        <p:spPr>
          <a:xfrm>
            <a:off x="2071800" y="3286080"/>
            <a:ext cx="114300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"/>
          <p:cNvPicPr/>
          <p:nvPr/>
        </p:nvPicPr>
        <p:blipFill>
          <a:blip r:embed="rId8"/>
          <a:stretch/>
        </p:blipFill>
        <p:spPr>
          <a:xfrm>
            <a:off x="6858000" y="3429000"/>
            <a:ext cx="542880" cy="476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33"/>
          <p:cNvSpPr/>
          <p:nvPr/>
        </p:nvSpPr>
        <p:spPr>
          <a:xfrm>
            <a:off x="6572160" y="3286080"/>
            <a:ext cx="114300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05:28Z</dcterms:created>
  <dc:creator>Admin</dc:creator>
  <dc:description/>
  <dc:language>en-US</dc:language>
  <cp:lastModifiedBy>Admin</cp:lastModifiedBy>
  <dcterms:modified xsi:type="dcterms:W3CDTF">2004-01-01T00:16:08Z</dcterms:modified>
  <cp:revision>2</cp:revision>
  <dc:subject/>
  <dc:title>Слайд 1</dc:title>
</cp:coreProperties>
</file>